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7.wmf" ContentType="image/x-wmf"/>
  <Override PartName="/ppt/media/image1.jpeg" ContentType="image/jpeg"/>
  <Override PartName="/ppt/media/image4.wmf" ContentType="image/x-wmf"/>
  <Override PartName="/ppt/media/carbrake.wav" ContentType="audio/x-wav"/>
  <Override PartName="/ppt/media/drumroll.wav" ContentType="audio/x-wav"/>
  <Override PartName="/ppt/media/camera.wav" ContentType="audio/x-wav"/>
  <Override PartName="/ppt/media/image5.wmf" ContentType="image/x-wmf"/>
  <Override PartName="/ppt/media/image12.wmf" ContentType="image/x-wmf"/>
  <Override PartName="/ppt/media/laser.wav" ContentType="audio/x-wav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camera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laser.wav"/><Relationship Id="rId4" Type="http://schemas.openxmlformats.org/officeDocument/2006/relationships/audio" Target="../media/carbrake.wav"/><Relationship Id="rId5" Type="http://schemas.openxmlformats.org/officeDocument/2006/relationships/audio" Target="../media/camera.wav"/><Relationship Id="rId6" Type="http://schemas.openxmlformats.org/officeDocument/2006/relationships/audio" Target="../media/laser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1219320" y="2362320"/>
            <a:ext cx="6781680" cy="5105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3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Arial Black"/>
              </a:rPr>
              <a:t>MEMORY</a:t>
            </a:r>
            <a:endParaRPr b="0" lang="en-US" sz="2400" spc="1" strike="noStrike">
              <a:ln w="63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228600"/>
            <a:ext cx="7848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48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Long Term Memo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371600"/>
            <a:ext cx="8534160" cy="137376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ong term memory is the permanent retention of information through repetition or rehears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2590920"/>
            <a:ext cx="8382240" cy="94716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ought to have an unlimited capacity – contains vast amounts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886200"/>
            <a:ext cx="8686800" cy="288252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hen performers are faced with a new situation, the relevant stimuli is passed from the STM- LT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Comparisons are made with any similar experien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f recognition occurs, the similarities are noted and a decision mad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4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228600"/>
            <a:ext cx="7848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48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Long Term Memo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447920"/>
            <a:ext cx="8534520" cy="82548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f the situation is new, then a motor programme will be formed based on the available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2666880"/>
            <a:ext cx="8381880" cy="45972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s may delay the decision making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3429000"/>
            <a:ext cx="8686800" cy="128196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Generally it is thought that once learned and stored in the LTM, skills are protected from loss – particularly MOTOR skil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09480" y="5105520"/>
            <a:ext cx="3505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ASK 4 - 2min!!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/>
          <p:nvPr/>
        </p:nvSpPr>
        <p:spPr>
          <a:xfrm>
            <a:off x="4267080" y="5181480"/>
            <a:ext cx="4648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ow can Long Term Memory be improv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1628640"/>
            <a:ext cx="8136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Motor programme = plan of action stored in the memory – made up of subrout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Sub routines = isolated aspects of a mo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77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770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6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8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838080" y="2438280"/>
            <a:ext cx="769644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80"/>
                  </a:solidFill>
                  <a:miter/>
                </a:ln>
                <a:noFill/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Improving Long Term Memory</a:t>
            </a:r>
            <a:endParaRPr b="0" lang="en-US" sz="2400" spc="1" strike="noStrike">
              <a:ln w="38160">
                <a:solidFill>
                  <a:srgbClr val="000080"/>
                </a:solidFill>
                <a:miter/>
              </a:ln>
              <a:noFill/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1828800" y="1676520"/>
            <a:ext cx="457200" cy="914400"/>
          </a:xfrm>
          <a:prstGeom prst="line">
            <a:avLst/>
          </a:prstGeom>
          <a:ln w="63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572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Improving the capability of the short term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3886200"/>
            <a:ext cx="838080" cy="990720"/>
          </a:xfrm>
          <a:prstGeom prst="line">
            <a:avLst/>
          </a:prstGeom>
          <a:ln w="63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19720" y="502920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Practicing and repeating movements, causing ‘over-learning’ of motor program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38480" y="1828800"/>
            <a:ext cx="381240" cy="838080"/>
          </a:xfrm>
          <a:prstGeom prst="line">
            <a:avLst/>
          </a:prstGeom>
          <a:ln w="63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53352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Using mental rehea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971440" y="3657600"/>
            <a:ext cx="762120" cy="838080"/>
          </a:xfrm>
          <a:prstGeom prst="line">
            <a:avLst/>
          </a:prstGeom>
          <a:ln w="63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464832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Developing a range of past experien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715000" y="2209320"/>
            <a:ext cx="1143000" cy="685800"/>
          </a:xfrm>
          <a:prstGeom prst="line">
            <a:avLst/>
          </a:prstGeom>
          <a:ln w="63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19920" y="228600"/>
            <a:ext cx="289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Making info meaningful, relevant &amp; interesting to the perfor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8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619280" y="907920"/>
            <a:ext cx="5638680" cy="10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ASK 5 - 1 min!!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"/>
          <p:cNvSpPr/>
          <p:nvPr/>
        </p:nvSpPr>
        <p:spPr>
          <a:xfrm>
            <a:off x="1908000" y="2349360"/>
            <a:ext cx="568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Label the memory model on the next slide using the words on the side to help y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2411280" y="1052640"/>
          <a:ext cx="6561360" cy="474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1052640"/>
                    <a:ext cx="6561360" cy="47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 txBox="1"/>
          <p:nvPr/>
        </p:nvSpPr>
        <p:spPr>
          <a:xfrm>
            <a:off x="685800" y="152280"/>
            <a:ext cx="7848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Arial Black"/>
              </a:rPr>
              <a:t>memory model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923760"/>
            <a:ext cx="2160360" cy="56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Times New Roman"/>
              </a:rPr>
              <a:t>Selective atten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Times New Roman"/>
              </a:rPr>
              <a:t>Long term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Times New Roman"/>
              </a:rPr>
              <a:t>Short term sensory 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Times New Roman"/>
              </a:rPr>
              <a:t>Input of stimulus from sensory recep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Times New Roman"/>
              </a:rPr>
              <a:t>Short term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Times New Roman"/>
              </a:rPr>
              <a:t>Motor plan via effector 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>
            <a:lum bright="12000"/>
          </a:blip>
          <a:srcRect l="856" t="4976" r="6837" b="3028"/>
          <a:stretch/>
        </p:blipFill>
        <p:spPr>
          <a:xfrm>
            <a:off x="304920" y="349200"/>
            <a:ext cx="8610480" cy="6203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457200"/>
            <a:ext cx="7924680" cy="5879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92f07"/>
                </a:solidFill>
                <a:latin typeface="Comic Sans MS"/>
              </a:rPr>
              <a:t>A novice and an experienced performer are both playing in separate rugby mat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9400"/>
                </a:solidFill>
                <a:latin typeface="Comic Sans MS"/>
              </a:rPr>
              <a:t>Both are confronted with the same situation in their g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They are both in possession of the ball, with support players either side and are confronted with a defender attempting to make a tack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dc00"/>
                </a:solidFill>
                <a:latin typeface="Comic Sans MS"/>
              </a:rPr>
              <a:t>Fill in the table on the next slide to highlight and compare the possible memory process of both the novice and the experienced perfor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52280" y="457200"/>
          <a:ext cx="8763120" cy="6261120"/>
        </p:xfrm>
        <a:graphic>
          <a:graphicData uri="http://schemas.openxmlformats.org/drawingml/2006/table">
            <a:tbl>
              <a:tblPr/>
              <a:tblGrid>
                <a:gridCol w="1067040"/>
                <a:gridCol w="3581280"/>
                <a:gridCol w="4114800"/>
              </a:tblGrid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vice Perform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perienced Perform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3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2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07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T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1371600" y="12193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1066680"/>
            <a:ext cx="3657600" cy="169416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athers info about some of their own team, opponents, own position, aware of crowd / coach calling instruc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1143000"/>
            <a:ext cx="3429000" cy="109944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athers info about their own team, opponents, personal pos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2666880"/>
            <a:ext cx="3581280" cy="201420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Some relevant stimuli collected e.g. location of defender and position of 1 support player plus some irrelevant cues e.g. shouts from crowd about what to d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743200"/>
            <a:ext cx="3657600" cy="169416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Eliminates some stimuli e.g. crowd noise – non-option players, retains info about several possible team-mates and defender’s posi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4876920"/>
            <a:ext cx="3504960" cy="169416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Limited reference data available, distracted by crowd and either makes pass to closest player or runs into defend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4572000"/>
            <a:ext cx="4038480" cy="201420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Large amount of previous experience-can select from range of options e.g. pass to support player in best position, kick ball into suitable space or another play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rot="16200600">
            <a:off x="2510640" y="73440"/>
            <a:ext cx="4346640" cy="8151840"/>
          </a:xfrm>
          <a:prstGeom prst="rtTriangle">
            <a:avLst/>
          </a:prstGeom>
          <a:gradFill rotWithShape="0">
            <a:gsLst>
              <a:gs pos="0">
                <a:srgbClr val="007575"/>
              </a:gs>
              <a:gs pos="100000">
                <a:srgbClr val="00ffff"/>
              </a:gs>
            </a:gsLst>
            <a:lin ang="10800000"/>
          </a:gra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.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laying a tennis game,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layer cannot ha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xperienced every typ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hot, but based on experi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y adapt the required stro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o meet the specif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395800">
            <a:off x="2361960" y="-1452240"/>
            <a:ext cx="3576600" cy="7392960"/>
          </a:xfrm>
          <a:prstGeom prst="rtTriangle">
            <a:avLst/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n our memory we sto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generalised series o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movement patterns tha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we modify to adap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to the curre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457200"/>
            <a:ext cx="8077320" cy="571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232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000099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868686"/>
                  </a:outerShdw>
                </a:effectLst>
                <a:latin typeface="Comic Sans MS"/>
              </a:rPr>
              <a:t>Schema Theory</a:t>
            </a:r>
            <a:endParaRPr b="1" lang="en-US" sz="4800" spc="1" strike="noStrike">
              <a:ln w="2232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000099"/>
                  </a:gs>
                </a:gsLst>
                <a:lin ang="10800000"/>
              </a:gradFill>
              <a:effectLst>
                <a:outerShdw dist="107932" dir="13500000" blurRad="0" rotWithShape="0">
                  <a:srgbClr val="868686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blinds dir="horz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09480" y="685800"/>
            <a:ext cx="4038840" cy="192276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are a variety of basic schemas that we modify which then allow us to develop the skills needed for specific s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5791320"/>
            <a:ext cx="3810240" cy="45972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52880" y="3581280"/>
            <a:ext cx="3810240" cy="45972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um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0920" y="5105520"/>
            <a:ext cx="3809880" cy="45972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r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4343400"/>
            <a:ext cx="3810240" cy="45972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457200"/>
            <a:ext cx="8077320" cy="571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232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000099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868686"/>
                  </a:outerShdw>
                </a:effectLst>
                <a:latin typeface="Comic Sans MS"/>
              </a:rPr>
              <a:t>Schema Theory</a:t>
            </a:r>
            <a:endParaRPr b="1" lang="en-US" sz="4800" spc="1" strike="noStrike">
              <a:ln w="2232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000099"/>
                  </a:gs>
                </a:gsLst>
                <a:lin ang="10800000"/>
              </a:gradFill>
              <a:effectLst>
                <a:outerShdw dist="107932" dir="13500000" blurRad="0" rotWithShape="0">
                  <a:srgbClr val="868686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blinds dir="vert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533520" y="182880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y the end of today’s lesson you should be able to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04920" y="32004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Name at least 3 characteristics of both the short &amp; long term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80880" y="47242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 Label a diagram showing the relationship between the components of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380880"/>
            <a:ext cx="8381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earning Outcomes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zoom dir="in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33520" y="533520"/>
            <a:ext cx="4343400" cy="2590560"/>
          </a:xfrm>
          <a:prstGeom prst="ellipse">
            <a:avLst/>
          </a:prstGeom>
          <a:gradFill rotWithShape="0">
            <a:gsLst>
              <a:gs pos="0">
                <a:srgbClr val="372dbb"/>
              </a:gs>
              <a:gs pos="100000">
                <a:srgbClr val="8b85d6"/>
              </a:gs>
            </a:gsLst>
            <a:lin ang="5400000"/>
          </a:gradFill>
          <a:ln w="38160">
            <a:solidFill>
              <a:srgbClr val="c3eb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RECALL SCHEM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tarts the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mes from the mem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373392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372dbb"/>
              </a:gs>
              <a:gs pos="100000">
                <a:srgbClr val="8b85d6"/>
              </a:gs>
            </a:gsLst>
            <a:lin ang="5400000"/>
          </a:gradFill>
          <a:ln w="38160">
            <a:solidFill>
              <a:srgbClr val="c3eb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RECOGNITION SCHEM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ntrol &amp; evaluate the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eedback is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457200"/>
            <a:ext cx="8077320" cy="571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232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000099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868686"/>
                  </a:outerShdw>
                </a:effectLst>
                <a:latin typeface="Comic Sans MS"/>
              </a:rPr>
              <a:t>Schema Theory</a:t>
            </a:r>
            <a:endParaRPr b="1" lang="en-US" sz="4800" spc="1" strike="noStrike">
              <a:ln w="2232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000099"/>
                  </a:gs>
                </a:gsLst>
                <a:lin ang="10800000"/>
              </a:gradFill>
              <a:effectLst>
                <a:outerShdw dist="107932" dir="13500000" blurRad="0" rotWithShape="0">
                  <a:srgbClr val="868686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checker dir="horz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457200"/>
            <a:ext cx="66294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t 1: Knowledge of Initial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where are you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cation of the perfor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ir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imb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4267080"/>
            <a:ext cx="3886200" cy="2057400"/>
          </a:xfrm>
          <a:prstGeom prst="rect">
            <a:avLst/>
          </a:prstGeom>
          <a:gradFill rotWithShape="0">
            <a:gsLst>
              <a:gs pos="0">
                <a:srgbClr val="75e5ff"/>
              </a:gs>
              <a:gs pos="100000">
                <a:srgbClr val="9797e5"/>
              </a:gs>
            </a:gsLst>
            <a:lin ang="8100000"/>
          </a:gradFill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.g. you are behin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ine in basketb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out to tak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ree th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514600" y="4648320"/>
            <a:ext cx="1395360" cy="1793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7772400" y="2286000"/>
            <a:ext cx="906480" cy="41274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57200" y="457200"/>
            <a:ext cx="8077320" cy="571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232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000099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868686"/>
                  </a:outerShdw>
                </a:effectLst>
                <a:latin typeface="Comic Sans MS"/>
              </a:rPr>
              <a:t>Schema Theory</a:t>
            </a:r>
            <a:endParaRPr b="1" lang="en-US" sz="4800" spc="1" strike="noStrike">
              <a:ln w="2232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000099"/>
                  </a:gs>
                </a:gsLst>
                <a:lin ang="10800000"/>
              </a:gradFill>
              <a:effectLst>
                <a:outerShdw dist="107932" dir="13500000" blurRad="0" rotWithShape="0">
                  <a:srgbClr val="868686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457200"/>
            <a:ext cx="7238880" cy="31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t 2: Knowledge of Response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i="1" lang="en-US" sz="2300" spc="-1" strike="noStrike">
                <a:solidFill>
                  <a:srgbClr val="000000"/>
                </a:solidFill>
                <a:latin typeface="Comic Sans MS"/>
              </a:rPr>
              <a:t>what to do’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About the task to be comple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Demands of mov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Height / speed etc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4267080"/>
            <a:ext cx="3886200" cy="2057400"/>
          </a:xfrm>
          <a:prstGeom prst="rect">
            <a:avLst/>
          </a:prstGeom>
          <a:gradFill rotWithShape="0">
            <a:gsLst>
              <a:gs pos="0">
                <a:srgbClr val="75e5ff"/>
              </a:gs>
              <a:gs pos="100000">
                <a:srgbClr val="9797e5"/>
              </a:gs>
            </a:gsLst>
            <a:lin ang="8100000"/>
          </a:gradFill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.g. you are requi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 shoot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asketball at the 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315200" y="2819520"/>
            <a:ext cx="1533600" cy="34527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2865600" y="4419720"/>
            <a:ext cx="1365120" cy="19555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457200"/>
            <a:ext cx="8077320" cy="571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232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000099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868686"/>
                  </a:outerShdw>
                </a:effectLst>
                <a:latin typeface="Comic Sans MS"/>
              </a:rPr>
              <a:t>Schema Theory</a:t>
            </a:r>
            <a:endParaRPr b="1" lang="en-US" sz="4800" spc="1" strike="noStrike">
              <a:ln w="2232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000099"/>
                  </a:gs>
                </a:gsLst>
                <a:lin ang="10800000"/>
              </a:gradFill>
              <a:effectLst>
                <a:outerShdw dist="107932" dir="13500000" blurRad="0" rotWithShape="0">
                  <a:srgbClr val="868686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457200"/>
            <a:ext cx="7238880" cy="41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t 3: Sensory Con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what does the movement feel like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Kinaesthetic feeling/soun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&amp; other sensory info et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Allows suitable adjustmen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to be ma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86200" y="4267080"/>
            <a:ext cx="3886200" cy="2057400"/>
          </a:xfrm>
          <a:prstGeom prst="rect">
            <a:avLst/>
          </a:prstGeom>
          <a:gradFill rotWithShape="0">
            <a:gsLst>
              <a:gs pos="0">
                <a:srgbClr val="75e5ff"/>
              </a:gs>
              <a:gs pos="100000">
                <a:srgbClr val="9797e5"/>
              </a:gs>
            </a:gsLst>
            <a:lin ang="8100000"/>
          </a:gradFill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.g. Feel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asket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 your h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s you take the sh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276720" y="4495680"/>
            <a:ext cx="688680" cy="2076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162920" y="2286000"/>
            <a:ext cx="1114200" cy="4297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457200"/>
            <a:ext cx="8077320" cy="571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232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000099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868686"/>
                  </a:outerShdw>
                </a:effectLst>
                <a:latin typeface="Comic Sans MS"/>
              </a:rPr>
              <a:t>Schema Theory</a:t>
            </a:r>
            <a:endParaRPr b="1" lang="en-US" sz="4800" spc="1" strike="noStrike">
              <a:ln w="2232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000099"/>
                  </a:gs>
                </a:gsLst>
                <a:lin ang="10800000"/>
              </a:gradFill>
              <a:effectLst>
                <a:outerShdw dist="107932" dir="13500000" blurRad="0" rotWithShape="0">
                  <a:srgbClr val="868686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457200"/>
            <a:ext cx="7238880" cy="41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t 4: Response Out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what happened as a result of the movement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end resu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compared to intended outc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Vital for updating f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future re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6200" y="4267080"/>
            <a:ext cx="3886200" cy="2057400"/>
          </a:xfrm>
          <a:prstGeom prst="rect">
            <a:avLst/>
          </a:prstGeom>
          <a:gradFill rotWithShape="0">
            <a:gsLst>
              <a:gs pos="0">
                <a:srgbClr val="75e5ff"/>
              </a:gs>
              <a:gs pos="100000">
                <a:srgbClr val="9797e5"/>
              </a:gs>
            </a:gsLst>
            <a:lin ang="8100000"/>
          </a:gradFill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.g. was the basketb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ot success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362320" y="4800600"/>
            <a:ext cx="1647720" cy="16765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7010280" y="2438280"/>
            <a:ext cx="1704960" cy="2590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7467480" y="5029200"/>
            <a:ext cx="1192320" cy="1432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457200" y="457200"/>
            <a:ext cx="8077320" cy="571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232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000099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868686"/>
                  </a:outerShdw>
                </a:effectLst>
                <a:latin typeface="Comic Sans MS"/>
              </a:rPr>
              <a:t>Schema Theory</a:t>
            </a:r>
            <a:endParaRPr b="1" lang="en-US" sz="4800" spc="1" strike="noStrike">
              <a:ln w="2232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000099"/>
                  </a:gs>
                </a:gsLst>
                <a:lin ang="10800000"/>
              </a:gradFill>
              <a:effectLst>
                <a:outerShdw dist="107932" dir="13500000" blurRad="0" rotWithShape="0">
                  <a:srgbClr val="868686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aeae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380880"/>
            <a:ext cx="327672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tor Progra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6400" y="380880"/>
            <a:ext cx="327672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1981080"/>
            <a:ext cx="2209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2514600"/>
            <a:ext cx="6248160" cy="19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Pass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Developed from throwing &amp; catch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by experience &amp; feedba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4952880"/>
            <a:ext cx="3276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n be used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28800" y="5943600"/>
            <a:ext cx="28954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American Footb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5943600"/>
            <a:ext cx="129564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Netb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5943600"/>
            <a:ext cx="16002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Rugb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5943600"/>
            <a:ext cx="190512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Basketb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638680" y="1371600"/>
            <a:ext cx="99072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1371600"/>
            <a:ext cx="114300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48320" y="441972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219320" y="5181480"/>
            <a:ext cx="182880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276720" y="5410080"/>
            <a:ext cx="45720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86400" y="5410080"/>
            <a:ext cx="30492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24480" y="5181480"/>
            <a:ext cx="1371600" cy="83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 rot="5400000">
            <a:off x="2514240" y="-1447560"/>
            <a:ext cx="3581280" cy="7543800"/>
          </a:xfrm>
          <a:prstGeom prst="rtTriangle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99072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raining &amp; Developing Sch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5410080"/>
            <a:ext cx="3505320" cy="45972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ariation of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3880" y="6019920"/>
            <a:ext cx="7086600" cy="45972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velop as many schema a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38480" y="4038480"/>
            <a:ext cx="2286000" cy="119124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hallenging &amp; progressive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77120" y="4114800"/>
            <a:ext cx="2209680" cy="155700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levant practice to competitive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48320" y="3352680"/>
            <a:ext cx="3962160" cy="45972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void blocked prac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457200"/>
            <a:ext cx="8077320" cy="571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232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000099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868686"/>
                  </a:outerShdw>
                </a:effectLst>
                <a:latin typeface="Comic Sans MS"/>
              </a:rPr>
              <a:t>Schema Theory</a:t>
            </a:r>
            <a:endParaRPr b="1" lang="en-US" sz="4800" spc="1" strike="noStrike">
              <a:ln w="2232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000099"/>
                  </a:gs>
                </a:gsLst>
                <a:lin ang="10800000"/>
              </a:gradFill>
              <a:effectLst>
                <a:outerShdw dist="107932" dir="13500000" blurRad="0" rotWithShape="0">
                  <a:srgbClr val="868686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dissolve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 rot="5400000">
            <a:off x="2438280" y="-1371600"/>
            <a:ext cx="3733560" cy="7543800"/>
          </a:xfrm>
          <a:prstGeom prst="rtTriangle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7621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 based on Schema theory…how should sports skills be taugh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5867280"/>
            <a:ext cx="7391520" cy="45972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ary conditions by changing initial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67080" y="3962520"/>
            <a:ext cx="1905120" cy="155700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uild up a set of experi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43200" y="5257800"/>
            <a:ext cx="5257800" cy="82548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se discovery style not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24480" y="3276720"/>
            <a:ext cx="2286000" cy="155700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each fundamental skills before sport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457200"/>
            <a:ext cx="8077320" cy="571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232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000099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868686"/>
                  </a:outerShdw>
                </a:effectLst>
                <a:latin typeface="Comic Sans MS"/>
              </a:rPr>
              <a:t>Schema Theory</a:t>
            </a:r>
            <a:endParaRPr b="1" lang="en-US" sz="4800" spc="1" strike="noStrike">
              <a:ln w="2232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000099"/>
                  </a:gs>
                </a:gsLst>
                <a:lin ang="10800000"/>
              </a:gradFill>
              <a:effectLst>
                <a:outerShdw dist="107932" dir="13500000" blurRad="0" rotWithShape="0">
                  <a:srgbClr val="868686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dissolve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4920" y="1143000"/>
            <a:ext cx="8659800" cy="46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r the effective learning of golf skills, the performer needs to remember important instructions, cues and movement patte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a) What are the characteristics of short term memory?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(5 mar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b) How can a coach ensure that important information is stored in the performer’s long term memory?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(4 mar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) If following schema theory – name 2 ways sports skills such as the golf swing should be taught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(2 mar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602136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92f07"/>
                </a:solidFill>
                <a:latin typeface="Comic Sans MS"/>
              </a:rPr>
              <a:t>Use your notes to help you ans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228600"/>
            <a:ext cx="8207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ow... or homework!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0"/>
            <a:ext cx="7696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Short Term Memo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1981080"/>
            <a:ext cx="883944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 pairs write down as many characteristics of the short term memory that you can think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You get 1 mark for every point you’ve made that I have on my l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 marks if you’ve made a correct point that isn’t on my lis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86000" y="1066680"/>
            <a:ext cx="2057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ask 1 !!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724280" y="1066680"/>
            <a:ext cx="1905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1 min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in"/>
    <p:sndAc>
      <p:stSnd>
        <p:snd r:embed="rId2" name="drumroll.wav"/>
      </p:stSnd>
    </p:sndAc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457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M also known as ‘working memory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37160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M receives the filtered information from the short term sensory 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5909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M compares the filtered information with past experiences in the L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mited capacity of approx 7 pieces of inf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724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fo can be retained for approx 30 sec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55627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info is practiced / learned it is transferred to the LTM or rele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75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75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75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75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590920" y="228600"/>
            <a:ext cx="40384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ASK 2 !!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3716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e are going to play a game to see which of you has the best short term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2666880"/>
            <a:ext cx="84582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will be shown a tray with 20 it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will have 1 minute to memorise all the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tray will be taken away and you must write down as many of the items you can re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 NOT DISCUSS WITH ANYONE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209680" y="457200"/>
            <a:ext cx="49532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ASK 3 - 2 min!!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28800"/>
            <a:ext cx="8381880" cy="38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orking in pa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upil 1 makes up a list of 12 random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y read them out to their partner who must write them down and memorise them in 30 sec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y read them back to their partner without looking at list, who checks if they are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wap over using a new set of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30492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ow the Short Term Memory can be Improved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1981080"/>
            <a:ext cx="4572000" cy="581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CHU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2819520"/>
            <a:ext cx="8534160" cy="303948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information is arranged into larger units or ‘chunks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allows more information to be sto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g. a set play in a game situation will be remembered by a single call /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09480" y="30492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ow the Short Term Memory can be Improved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1981080"/>
            <a:ext cx="4572000" cy="581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CH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2819520"/>
            <a:ext cx="8534160" cy="255204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ieces information are linked together  making a ch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d in the ‘part method’ form of 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g. developing a sequence in gymna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30492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ow the Short Term Memory can be Improved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2133720"/>
            <a:ext cx="6400800" cy="581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 SELECTIVE AT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3352680"/>
            <a:ext cx="8534160" cy="155628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 using selective attention we are limiting the amount of irrelevant information passing into the short term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15:30:45Z</dcterms:created>
  <dc:creator>molly nicholas</dc:creator>
  <dc:description/>
  <dc:language>en-US</dc:language>
  <cp:lastModifiedBy>sullivang</cp:lastModifiedBy>
  <dcterms:modified xsi:type="dcterms:W3CDTF">2011-05-31T22:20:03Z</dcterms:modified>
  <cp:revision>11</cp:revision>
  <dc:subject/>
  <dc:title>PowerPoint Presentation</dc:title>
</cp:coreProperties>
</file>